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5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2463480"/>
            <a:ext cx="10769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5041800"/>
            <a:ext cx="1076976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07280" cy="88920"/>
            <a:chOff x="0" y="0"/>
            <a:chExt cx="10007280" cy="8892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5143320" y="3744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5"/>
            <a:stretch/>
          </p:blipFill>
          <p:spPr>
            <a:xfrm>
              <a:off x="4851360" y="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850680" y="837720"/>
            <a:ext cx="113029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385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1" marL="700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2" marL="1056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3" marL="141228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4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5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6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5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3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4388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8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2438280"/>
            <a:ext cx="1242072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3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7080" y="914040"/>
            <a:ext cx="5131080" cy="408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117080" y="5041800"/>
            <a:ext cx="513108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0"/>
            <a:ext cx="4368600" cy="88920"/>
            <a:chOff x="0" y="0"/>
            <a:chExt cx="4368600" cy="8892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203184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2336400" y="37440"/>
              <a:ext cx="203220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2031840" y="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10007280" cy="88920"/>
            <a:chOff x="0" y="0"/>
            <a:chExt cx="10007280" cy="8892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5143320" y="3744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4851360" y="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371600" indent="-48276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816200" indent="-48276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260440" indent="-4824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260440" indent="-482400">
              <a:spcBef>
                <a:spcPts val="825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260440" indent="-482400">
              <a:spcBef>
                <a:spcPts val="825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318600" indent="-31860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1" marL="611640" indent="-31824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2" marL="905040" indent="-31860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3" marL="1198440" indent="-31860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4" marL="1491840" indent="-31824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5" marL="1491840" indent="-318240">
              <a:spcBef>
                <a:spcPts val="1125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6" marL="1491840" indent="-318240">
              <a:spcBef>
                <a:spcPts val="1125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2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7440" y="2971440"/>
            <a:ext cx="1076976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slideshare.net/acarvin/social-networking-and-education" TargetMode="External"/><Relationship Id="rId3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-1320840"/>
            <a:ext cx="10464840" cy="6337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Social Networks </a:t>
            </a:r>
            <a:br>
              <a:rPr sz="6700"/>
            </a:b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&amp; Improving</a:t>
            </a:r>
            <a:br>
              <a:rPr sz="6700"/>
            </a:b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Professional Practice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1120" y="5181120"/>
            <a:ext cx="10922040" cy="252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53521"/>
                </a:solidFill>
                <a:latin typeface="Bodoni SvtyTwo SC ITC TT-Book"/>
              </a:rPr>
              <a:t>by Roger Dreger</a:t>
            </a:r>
            <a:endParaRPr b="0" lang="en-US" sz="5000" spc="-1" strike="noStrike">
              <a:solidFill>
                <a:srgbClr val="a53521"/>
              </a:solidFill>
              <a:latin typeface="Bodoni SvtyTwo SC ITC TT-Book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EDLD 5362, 01/23/09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16120" y="2901960"/>
            <a:ext cx="957564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433a"/>
                </a:solidFill>
                <a:latin typeface="Hoefler Text"/>
                <a:ea typeface="Hoefler Text"/>
              </a:rPr>
              <a:t>In summary, these social networks would allow me to reach both professional and personal goals. I can network with like-minded educators anywhere in the world to share ideas and resources. This cannot help but make me a more effective educational leader.</a:t>
            </a:r>
            <a:endParaRPr b="0" lang="en-US" sz="36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041480" y="-704880"/>
            <a:ext cx="10922040" cy="90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Works Cited:</a:t>
            </a: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University of Minnesota (2008, June 21). Educational Benefits Of Social Networking Sites </a:t>
            </a: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Carvin, A. (n.d.). Social Networking and Education. In </a:t>
            </a:r>
            <a:r>
              <a:rPr b="0" i="1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Social Networking in Education.</a:t>
            </a:r>
            <a:r>
              <a:rPr b="0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   Retrieved January, 23, 2010,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slideshare.net/acarvin/social-networking-and-education</a:t>
            </a:r>
            <a:r>
              <a:rPr b="0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Schmuki, L. . (2009). Social Networking. In </a:t>
            </a:r>
            <a:r>
              <a:rPr b="0" i="1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Education Week</a:t>
            </a:r>
            <a:r>
              <a:rPr b="0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. Retrieved January 23, 2010, from </a:t>
            </a:r>
            <a:r>
              <a:rPr b="0" lang="en-US" sz="2400" spc="-1" strike="noStrike" u="sng">
                <a:solidFill>
                  <a:srgbClr val="45433a"/>
                </a:solidFill>
                <a:uFillTx/>
                <a:latin typeface="Times New Roman"/>
                <a:ea typeface="Times New Roman"/>
              </a:rPr>
              <a:t>http://www.edweek.org/login.html?source=http://www.edweek.org/ew/articles/2009/09/30/05report-5.h29.html&amp;destination=http://www.edweek.org/ew/articles/2009/09/30/05report-5.h29.html&amp;levelId=2100</a:t>
            </a:r>
            <a:r>
              <a:rPr b="0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433a"/>
                </a:solidFill>
                <a:latin typeface="Times New Roman"/>
                <a:ea typeface="Times New Roman"/>
              </a:rPr>
              <a:t>O'Connor P.J., N.P. Pronk, A. Tan, and R.P. Whitebird. 2005. Characteristics of adults who use prayer as an alternative therapy.</a:t>
            </a: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Week 2 assignment: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50680" y="237456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5433a"/>
                </a:solidFill>
                <a:latin typeface="Hoefler Text"/>
              </a:rPr>
              <a:t>Choose 2 social networks that would be useful in my current position.</a:t>
            </a:r>
            <a:endParaRPr b="0" lang="en-US" sz="40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5433a"/>
                </a:solidFill>
                <a:latin typeface="Hoefler Text"/>
              </a:rPr>
              <a:t>Discuss how and why I would use these networks and expected impact on professional practice</a:t>
            </a:r>
            <a:endParaRPr b="0" lang="en-US" sz="40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0"/>
            <a:ext cx="4902120" cy="5613480"/>
            <a:chOff x="0" y="0"/>
            <a:chExt cx="4902120" cy="5613480"/>
          </a:xfrm>
        </p:grpSpPr>
        <p:pic>
          <p:nvPicPr>
            <p:cNvPr id="550" name="" descr=""/>
            <p:cNvPicPr/>
            <p:nvPr/>
          </p:nvPicPr>
          <p:blipFill>
            <a:blip r:embed="rId2"/>
            <a:srcRect l="12507" t="0" r="12467" b="0"/>
            <a:stretch/>
          </p:blipFill>
          <p:spPr>
            <a:xfrm>
              <a:off x="291960" y="266760"/>
              <a:ext cx="4343400" cy="49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02120" cy="561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50680" y="-165240"/>
            <a:ext cx="11302920" cy="327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Network #1:</a:t>
            </a:r>
            <a:br>
              <a:rPr sz="6700"/>
            </a:b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assroom 2.0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5433a"/>
                </a:solidFill>
                <a:latin typeface="Hoefler Text"/>
              </a:rPr>
              <a:t>Social network for “...those interested in Web 2.0 and collaborative technologies in education.”</a:t>
            </a:r>
            <a:endParaRPr b="0" lang="en-US" sz="22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5433a"/>
                </a:solidFill>
                <a:latin typeface="Hoefler Text"/>
              </a:rPr>
              <a:t>Provides workshops, webinars, forums, chat, blogs, and other Web 2.0 resources for members.</a:t>
            </a:r>
            <a:endParaRPr b="0" lang="en-US" sz="22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5433a"/>
                </a:solidFill>
                <a:latin typeface="Hoefler Text"/>
              </a:rPr>
              <a:t>Over 36,000 members from all over the world.</a:t>
            </a:r>
            <a:endParaRPr b="0" lang="en-US" sz="22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5433a"/>
                </a:solidFill>
                <a:latin typeface="Hoefler Text"/>
              </a:rPr>
              <a:t>Part of the ning.com network, that according to Andy Carvin (n.d.) of National Public Radio is a “...more productive option...” than similar sites.</a:t>
            </a:r>
            <a:endParaRPr b="0" lang="en-US" sz="2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433a"/>
                </a:solidFill>
                <a:latin typeface="Hoefler Text"/>
              </a:rPr>
              <a:t>I hope to increase my understanding and use of Web 2.0 by incorporating their content with my Masters Program.</a:t>
            </a:r>
            <a:endParaRPr b="0" lang="en-US" sz="28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433a"/>
                </a:solidFill>
                <a:latin typeface="Hoefler Text"/>
              </a:rPr>
              <a:t>The members can be a benefit to me if I have questions or am searching for resources.</a:t>
            </a:r>
            <a:endParaRPr b="0" lang="en-US" sz="28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433a"/>
                </a:solidFill>
                <a:latin typeface="Hoefler Text"/>
              </a:rPr>
              <a:t>I can participate in discussions in order to find best practices of using technology in the classroom.</a:t>
            </a:r>
            <a:endParaRPr b="0" lang="en-US" sz="28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433a"/>
                </a:solidFill>
                <a:latin typeface="Hoefler Text"/>
              </a:rPr>
              <a:t>The University of Minnesota (2008) found there were educational benefits to using social networking sites. This benefit would be for me as both a teacher and a student.</a:t>
            </a:r>
            <a:endParaRPr b="0" lang="en-US" sz="28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850680" y="837720"/>
            <a:ext cx="1130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ademy Engraved LET"/>
              </a:rPr>
              <a:t>How this network wou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cademy Engraved LET"/>
              </a:rPr>
              <a:t>be useful to me</a:t>
            </a:r>
            <a:endParaRPr b="0" lang="en-US" sz="4800" spc="-1" strike="noStrike">
              <a:solidFill>
                <a:srgbClr val="000000"/>
              </a:solidFill>
              <a:latin typeface="Academy Engraved LE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0" y="0"/>
            <a:ext cx="5207040" cy="6807240"/>
            <a:chOff x="0" y="0"/>
            <a:chExt cx="5207040" cy="6807240"/>
          </a:xfrm>
        </p:grpSpPr>
        <p:pic>
          <p:nvPicPr>
            <p:cNvPr id="557" name="" descr=""/>
            <p:cNvPicPr/>
            <p:nvPr/>
          </p:nvPicPr>
          <p:blipFill>
            <a:blip r:embed="rId2"/>
            <a:srcRect l="990" t="0" r="31613" b="102"/>
            <a:stretch/>
          </p:blipFill>
          <p:spPr>
            <a:xfrm>
              <a:off x="291960" y="271440"/>
              <a:ext cx="4648320" cy="61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207040" cy="680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756480" y="1257480"/>
            <a:ext cx="5130720" cy="726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In fact, minutes after joining Classroom 2.0, I signed up for this interactive webinar. 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It is about using PBS shows to teach science to upper elementary &amp; middle school students.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Because it is interactive, I had to test my computer and download software in order to access the webinar.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0" y="0"/>
            <a:ext cx="11201400" cy="6006960"/>
            <a:chOff x="0" y="0"/>
            <a:chExt cx="11201400" cy="6006960"/>
          </a:xfrm>
        </p:grpSpPr>
        <p:pic>
          <p:nvPicPr>
            <p:cNvPr id="561" name="" descr=""/>
            <p:cNvPicPr/>
            <p:nvPr/>
          </p:nvPicPr>
          <p:blipFill>
            <a:blip r:embed="rId2"/>
            <a:srcRect l="2507" t="23192" r="0" b="7885"/>
            <a:stretch/>
          </p:blipFill>
          <p:spPr>
            <a:xfrm>
              <a:off x="291960" y="266760"/>
              <a:ext cx="10375920" cy="539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201400" cy="600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003320" y="1002960"/>
            <a:ext cx="1076976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According to edweb.net, as cited in Education Week (2009) , 62% of all educators belong to a social networking site. 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0" y="0"/>
            <a:ext cx="11201400" cy="6006960"/>
            <a:chOff x="0" y="0"/>
            <a:chExt cx="11201400" cy="6006960"/>
          </a:xfrm>
        </p:grpSpPr>
        <p:pic>
          <p:nvPicPr>
            <p:cNvPr id="565" name="" descr=""/>
            <p:cNvPicPr/>
            <p:nvPr/>
          </p:nvPicPr>
          <p:blipFill>
            <a:blip r:embed="rId2"/>
            <a:srcRect l="0" t="29768" r="0" b="1848"/>
            <a:stretch/>
          </p:blipFill>
          <p:spPr>
            <a:xfrm>
              <a:off x="291960" y="266760"/>
              <a:ext cx="10642680" cy="539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201400" cy="600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003320" y="1409400"/>
            <a:ext cx="1076976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 </a:t>
            </a: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In the same presentation, 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ey show 5 % of them belong to classroom 2.0!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0"/>
            <a:ext cx="4902120" cy="5613480"/>
            <a:chOff x="0" y="0"/>
            <a:chExt cx="4902120" cy="561348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rcRect l="14199" t="0" r="14399" b="0"/>
            <a:stretch/>
          </p:blipFill>
          <p:spPr>
            <a:xfrm>
              <a:off x="291960" y="266760"/>
              <a:ext cx="4343400" cy="49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902120" cy="561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50680" y="-165240"/>
            <a:ext cx="11302920" cy="327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  <a:ea typeface="Times New Roman"/>
              </a:rPr>
              <a:t>Network #2:</a:t>
            </a:r>
            <a:br>
              <a:rPr sz="6700"/>
            </a:b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alled to teach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5433a"/>
                </a:solidFill>
                <a:latin typeface="Hoefler Text"/>
              </a:rPr>
              <a:t>Social network for “Encouraging Christian teachers to live Christ in the classroom.”</a:t>
            </a:r>
            <a:endParaRPr b="0" lang="en-US" sz="22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5433a"/>
                </a:solidFill>
                <a:latin typeface="Hoefler Text"/>
              </a:rPr>
              <a:t>Started from a conference last year in Arkansas.</a:t>
            </a:r>
            <a:endParaRPr b="0" lang="en-US" sz="22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5433a"/>
                </a:solidFill>
                <a:latin typeface="Hoefler Text"/>
              </a:rPr>
              <a:t>Resources such as blogs and forums</a:t>
            </a:r>
            <a:endParaRPr b="0" lang="en-US" sz="22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5433a"/>
                </a:solidFill>
                <a:latin typeface="Hoefler Text"/>
              </a:rPr>
              <a:t>Also part of the ning.com network, that according to Andy Carvin (n.d.) of National Public Radio is a “...more productive option...” than similar sites.</a:t>
            </a:r>
            <a:endParaRPr b="0" lang="en-US" sz="2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433a"/>
                </a:solidFill>
                <a:latin typeface="Hoefler Text"/>
              </a:rPr>
              <a:t>I can network with other teachers that are part of my faith community.</a:t>
            </a:r>
            <a:endParaRPr b="0" lang="en-US" sz="28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433a"/>
                </a:solidFill>
                <a:latin typeface="Hoefler Text"/>
              </a:rPr>
              <a:t>I can pray for and encourage other teachers who in turn can pray for and encourage me.</a:t>
            </a:r>
            <a:endParaRPr b="0" lang="en-US" sz="28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433a"/>
                </a:solidFill>
                <a:latin typeface="Hoefler Text"/>
              </a:rPr>
              <a:t>There are health benefits to prayer and religion (O’Connor, 2005)</a:t>
            </a:r>
            <a:endParaRPr b="0" lang="en-US" sz="28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433a"/>
                </a:solidFill>
                <a:latin typeface="Hoefler Text"/>
              </a:rPr>
              <a:t>The members can be a benefit to me if I have questions or am searching for resources that are specifically Christian in nature.</a:t>
            </a:r>
            <a:endParaRPr b="0" lang="en-US" sz="2800" spc="-1" strike="noStrike">
              <a:solidFill>
                <a:srgbClr val="45433a"/>
              </a:solidFill>
              <a:latin typeface="Hoefler Text"/>
            </a:endParaRPr>
          </a:p>
          <a:p>
            <a:pPr marL="473040" indent="-47304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433a"/>
                </a:solidFill>
                <a:latin typeface="Hoefler Text"/>
              </a:rPr>
              <a:t>The University of Minnesota (2008) found there were educational benefits to using social networking sites. This site would also benefit me as both a teacher and a student.</a:t>
            </a:r>
            <a:endParaRPr b="0" lang="en-US" sz="28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850680" y="634680"/>
            <a:ext cx="1130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ademy Engraved LET"/>
              </a:rPr>
              <a:t>How this network wou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cademy Engraved LET"/>
              </a:rPr>
              <a:t>be useful to me</a:t>
            </a:r>
            <a:endParaRPr b="0" lang="en-US" sz="4800" spc="-1" strike="noStrike">
              <a:solidFill>
                <a:srgbClr val="000000"/>
              </a:solidFill>
              <a:latin typeface="Academy Engraved LE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